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EB95E7F-CE39-4176-8936-7C257A9928D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775D8DA9-269F-495C-A2EF-55B5ABE5E2B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BC2572E1-CD89-43DC-80A2-08244D0B4FA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CBEB514C-735F-4373-8679-F292E6A1DCC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1E5F650D-8DDF-477D-967F-53A9015BE6C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A71C62-3C86-4DEE-8A57-22AA30A1031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1D376AA9-6669-4815-A907-B54FC7EB3E8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D0A4EC58-B1BB-4003-9FF6-51D20FD9EE3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ACB97512-4E67-4F86-AFC9-5CBE1F9D9DB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F7EEA09-77B1-451A-8B2C-F0C26886102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39CF694-2E4B-4C5F-AF9E-C878BF57958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26DC056-F54D-4D7D-97BF-EFF9BE16FEE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25F208-4332-47A8-9CED-4C9781E3748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C228C68-EC11-4271-9E62-E53F981CC1FD}"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4AE1EAC-2146-48B6-84C0-1B4F7FCF768C}"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3815DEB-8B26-4938-B5F2-D00F62ACE11F}"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C9CD5F-BFB4-48AC-B002-36999C19F59E}"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900F44-604F-4F26-8CC0-C75C8A8DEF4F}"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2CA69B-EDA8-46E1-8905-781632C00264}"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FFEFF57-34D1-42B6-A160-4D0CAB6437A5}"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FC5FD0-2349-41E1-B072-1794AE6995F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FF55BD-53E0-44A8-BC1F-F6D293D01DF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5FE17CB-6C7F-4400-A34C-32D11162EE4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B286B3-3DD2-45C4-BED1-5D06EC28D9C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68A9FED-0EB8-4BB1-8765-9EE1CFDEC15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94E8199-B9A6-4729-BC8E-3C0D8D694FD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52593701-D7D4-4BEC-9707-9F71B170935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605418-D56C-4653-821E-D32052730AE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F223B2D-6AE3-47D8-9AF1-AA165A31426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117F94C-F61E-4DFB-AB8E-EA428C123B7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D803F5-5079-42DD-8B0E-9FBB0CDBEFE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F5C922-A19B-408B-8C2F-2310B02A73F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455B87-84A9-4795-B373-9FE5160E897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9CD0B8E-AE0D-4E0F-8721-40C4D9271FB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FF95A4B-F31C-40C4-AA2F-451783F0F4E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7F42BC4-C80B-4431-B8C9-B7FAF2EA2C3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EDE92AF-A6F7-4509-8EB8-AC4EBA0987C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57511C-129C-4422-9550-D5037FA7343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3EA56A5-7DBA-4813-B80E-ECCA0E32943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46BB4E3-EC11-42C7-8CFE-5B19084E5F8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DC4704-5857-49F9-8FF6-F9D6A2212AC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D8F006F-BD99-4341-9875-8E762BEECFF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DD64AB-59D8-4189-A6DB-E31A7B99203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B24E730-BC47-44B1-9366-2C008C4B0C2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72D43FA-A702-49DC-AEB2-EC1C17B376B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961B090-2BDD-48C0-9777-A8A272293854}"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74DF4B-C314-4583-8C9F-B68ED3CBC7B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38D5F02-AF70-4943-AFD9-8A906E01E16F}"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C8EFB35-6139-410F-ACE5-9ABEB1B1B8D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3DF49A-2AB8-476C-8A18-93D6D270A5AF}"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5BA37F58-8F19-49B0-9589-12714E508BB1}"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652440-1E5B-4DF2-98D7-9633CDB42221}"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80182D-2F2D-4B31-AB0F-69515595E5B5}"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B8DBA2-49E7-4A69-A3D6-24A1F0AF439A}"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B3414B-DBF1-4BF5-973C-AF8E23CD8410}"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F5A7D28-42BD-452B-9C9A-78B1EA585B87}"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246195-2779-4163-89E6-8CB6DA5449F1}"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CF4042-6EBE-42D2-8309-6A15D43A2652}"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CF6148C-12D7-4D13-8AB7-330092818568}"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BC7108-BCCA-46E5-A272-0957AA21C27E}"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5F29CB6C-0EB4-47A7-B9AF-D5A32A14787D}"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2AD4EC5-533A-476C-B6DE-66199B66DF44}"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46857BC-CC4A-416C-AB72-82EC22B3FEBF}"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8AF32C-4BBC-4403-A168-967A2B20EA1A}"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8237D4-3AAB-4986-A1C0-A9A57EBD6FFF}"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0201F1F-35FC-43D2-879C-0CBAC2393D42}"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0B782D-7CE2-4162-95C4-867B5A19D720}"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7C04EF-AA5E-456C-93B5-4CFE2DCAD9DE}"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95498C-8DBA-476D-975E-D327E922F9E5}"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1A38AF-3888-4A29-8B1D-310C923F866C}"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D92220-2D50-4ED7-B8D8-FD8304D62E00}"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7C540F6A-CCD9-4C4F-8DAF-6B76719A8F6F}"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B30ADB9-82FC-4A7E-B89D-8C5EA1DBCA72}"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771DBE-533E-48A2-8FDF-9E6A6AA2D16F}"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236F18-D7D1-4EF7-86E4-B712F461018C}"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DA6B7A4-917D-453B-BEF3-5699E6B8D068}"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0134848-C4E2-4C69-B4CC-52E61C81FC1C}"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7C8688-98E5-47F7-AEF4-F240700AFAD3}"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41B691-52B6-4065-87FE-E805E893611B}"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490AB1A-A6AD-4787-8C84-62C30D1D2704}"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C3AEEC-D64A-4787-974C-24ED9A12B82E}"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4626A0-D399-4030-BF15-EB1040C1C453}"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FA2A46-6658-40AB-8D5B-9D503D57A14A}"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5D0BE16-4CAB-42F1-97F3-026B3BDD1BAE}"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898494-7F16-40F3-8CFE-D947A17EF197}"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834BAF6-04DC-4DDA-B9AC-E1A35D9E2703}"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7BB7AD4-BAE0-46CF-A59E-95B29C894840}"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9F5F43-D4AA-4067-8D34-5AC2FA5A424C}"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161A700-A71D-4DDF-B971-30654AA0D36B}"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AC5913-F2B1-4605-8139-1304E9F889D6}"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4371CF5-42EF-482C-9E76-01CDE529A9BA}"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B2BB06-755C-4078-BEC8-20A873653601}"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A05167-C54A-4AD5-8966-60FA5FE6CD30}"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606403-FB45-4FF7-A4AC-0259F1097E98}"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97E986-8C51-4CA9-9587-FFF40E4526D2}"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C9C3AF-1FC8-45A3-A04A-4529C38FE18E}"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F63923-0B51-465D-9B7E-43AA304CDADC}"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5D3DFE5-F868-4D9E-B9A8-BBA1C68088EB}"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274655-15D1-48D1-BD34-706863750BEA}"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101A58-920F-4337-809D-3068DF8E6C1F}"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09582D7-5D8B-4DE0-ACC0-5533F2973150}"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A7C4E2-587A-407D-8AEC-BC76B978FE77}"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F6277A7-3A5D-4506-ABF2-97762C88D4C2}"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7606A6-F71E-4F7E-9D7D-31B2E90DFD23}"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8D16B87-0DFA-46A1-B278-693F30D9D24E}"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7D2A00-3892-4F2A-AF64-8972EEB371BE}"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B2106E-062B-4338-868D-2DA5050E68AF}"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39601D0-B5DA-4F97-870A-9B8BB1498852}"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5224B1-C2FB-473F-8280-A4C6803B4DCD}"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E95708F-08B6-4AC3-9DBD-D1329EBFB9D2}"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CD950F-5414-4085-80B0-D6ACE5A355DE}"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7598460-C509-498C-A509-823955AA53A2}"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D4DB53-9926-40C2-8496-D4DFD03BE21D}"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C284260-A02D-416D-BE43-AD032F507D42}"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122EAC3-D63F-4AE0-9D21-BB9B4C10F750}"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B70B41-778A-44C1-9469-860DC348E3D8}"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02AEB05-ED38-476E-8076-93120D830C63}"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