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3851"/>
        <c:axId val="8931547"/>
      </c:barChart>
      <c:catAx>
        <c:axId val="8183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1547"/>
        <c:crosses val="autoZero"/>
        <c:auto val="1"/>
        <c:lblAlgn val="ctr"/>
        <c:lblOffset val="100"/>
        <c:noMultiLvlLbl val="0"/>
      </c:catAx>
      <c:valAx>
        <c:axId val="8931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3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21F-5A81-4359-9007-50A2D3B9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333-0968-49BA-942E-15793538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D1B-2EC6-47F6-ACB5-492FC06A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D20-1749-485F-9AA8-0295B956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775-A868-4F5A-B126-4F97A6F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DB3-36D2-487A-83C6-CA14C0FA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2AC-8D2D-453C-8D1F-3544877C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39C-DA22-4C7F-92AA-CB4AC023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3A7-1664-4BE3-BD0A-AB1C0E26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30B-5CB2-4114-AA52-B2864B54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DA7-88E6-4CAD-850C-E4AEC6D7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F66-EAE8-4613-8B90-3156625A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C3556-8EC8-464C-99AB-4C8E90F972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