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92327"/>
        <c:axId val="49323989"/>
      </c:barChart>
      <c:catAx>
        <c:axId val="51592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23989"/>
        <c:crosses val="autoZero"/>
        <c:auto val="1"/>
        <c:lblAlgn val="ctr"/>
        <c:lblOffset val="100"/>
        <c:noMultiLvlLbl val="0"/>
      </c:catAx>
      <c:valAx>
        <c:axId val="49323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92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10E-44E6-454B-A161-0A48D436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6C2-4B2E-4368-BE7A-3F0ACBF8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D6F-C9FC-48D1-94F4-4F69AE72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426-7E38-44AA-91F5-8941895F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3FD-075E-4CFC-80CE-70BE9942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8CD-CCCD-4887-B2A9-C780B24C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D7C-AEE8-4251-A58E-D96DC4E4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CB9-4CBF-462D-8123-58011B1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CEE-E2A5-46AB-BDD2-C328F8C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6A0-127F-48AB-B3DB-B132E3D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86A-96AC-4147-AD08-C68948C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2AD-6DDD-4283-A5BD-5A4AB04A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4703B-8351-4100-8338-66CA8F912C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