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81748"/>
        <c:axId val="23459890"/>
      </c:barChart>
      <c:catAx>
        <c:axId val="944817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59890"/>
        <c:crosses val="autoZero"/>
        <c:auto val="1"/>
        <c:lblAlgn val="ctr"/>
        <c:lblOffset val="100"/>
        <c:noMultiLvlLbl val="0"/>
      </c:catAx>
      <c:valAx>
        <c:axId val="23459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817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D23-9CE1-4E9D-93E4-E9F48A1D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923-7BA7-4F83-B7D1-57E8E1F5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665-A1CC-4EF5-8A44-45B81DDF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45B-B63F-4ED6-9E8A-144F8D22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57A-3086-42DB-97F4-BB305B2D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AFA-9FFF-4FC0-B259-0F2DAA11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D5D-F690-49E7-82BC-093F8191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362-7D86-454D-A161-2283DD50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070-D7E8-439B-96C6-DE4F3C60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EC8D-C16A-4446-AD5C-D09F8FBA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CB90-3232-46DB-81D2-3FFEDB52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9BB-62AB-4E89-A479-89CC9428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36242-00B6-4502-96BB-3C351C6D06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