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182672"/>
        <c:axId val="13492692"/>
      </c:barChart>
      <c:catAx>
        <c:axId val="491826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492692"/>
        <c:crosses val="autoZero"/>
        <c:auto val="1"/>
        <c:lblAlgn val="ctr"/>
        <c:lblOffset val="100"/>
        <c:noMultiLvlLbl val="0"/>
      </c:catAx>
      <c:valAx>
        <c:axId val="134926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1826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DEF9-BFD2-402E-AE33-E425A9F68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75AB-F4E4-439F-8162-91DEF1797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6B1A-0E4E-493F-A513-79103E13C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4519-495E-4F23-A82B-BC4E53001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542F-1AB1-4534-9B36-36BE77AA0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333F-E12D-4196-96E1-F4414A3C1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5BD3-1D4A-49F5-A6B6-E797CF639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3400-8D45-46E0-BE7E-7ACFF863E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FEF1-7E55-4306-ACD7-132C4D3A2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2F8F-0706-4150-A606-8962DE6C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E4F3-0930-4EE9-B739-E665EDC6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BB22-5A6E-46A0-9729-87C61A12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FF2ED8-BBFA-41AE-BEB5-1850EFDBAD2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