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01269"/>
        <c:axId val="29098297"/>
      </c:barChart>
      <c:catAx>
        <c:axId val="29101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8297"/>
        <c:crosses val="autoZero"/>
        <c:auto val="1"/>
        <c:lblAlgn val="ctr"/>
        <c:lblOffset val="100"/>
        <c:noMultiLvlLbl val="0"/>
      </c:catAx>
      <c:valAx>
        <c:axId val="29098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1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DF9-0CC9-43C5-BD93-B6549146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C52-8BC2-4752-88E9-083E0D1D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A6C-10B2-4B9A-B403-09729CF0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250-E88A-46D3-8973-394EC6BA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FCA-678D-48DF-A727-7EDB55E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6BA-470A-4F54-81FA-12B40768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91F-103A-4D00-82FA-14A4FB7E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61D-F184-45D9-B4B4-DA3A0872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FA7-1864-489B-8B39-0940BCA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AC7-AFD5-4D4B-B9FE-3EB79475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C8F-9615-44AA-A7F0-4A49379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0C7-7D38-458B-B08B-6D60E7F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8191A-02BC-41DB-B701-F72A95E9C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